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CC4F-C5AE-49DA-B981-98617233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004-C066-4199-B2B5-C2B1DDD4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39AE-BB2F-41BE-98D4-397D099A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92B-F903-495B-AEDB-C16AEF12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0D7-EFF3-46EC-B346-EBD86AFE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D89A-F2BD-4BFE-A787-FDDC4961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EB8-C5E5-4A1E-BABE-AD753821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17F-BAE9-429E-889F-71B05388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4539-14CC-484E-9A7B-94187186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4AC-EAEA-4414-8A69-45E4BB4B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0EB7-CC66-4E3A-944C-C2E2ECFA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DEE-A6BD-407D-ADC8-0D7524B2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73D9-9D85-47A9-BC32-A481EC9F4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457200"/>
            <a:ext cx="76197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irections to Jenn and Steve's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762120"/>
            <a:ext cx="4962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1643 Blue Water Drive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reeport, TX  77541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12408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1240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3200400"/>
            <a:ext cx="838440" cy="6094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rb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162000" y="2046600"/>
            <a:ext cx="107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WY 3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28195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M 5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825000" y="440316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 792/Blue Water 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505320"/>
            <a:ext cx="381024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tratton Ridge Road/Main 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 South onto FM 523 at Stratton Ridge Dow pl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 East onto CR 792/Blue Water 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ve 2.5 miles to Hide-A-Way sub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43 is over the bridge, 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ouse on the le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457200" cy="446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15383" t="16668" r="14423" b="25642"/>
          <a:stretch/>
        </p:blipFill>
        <p:spPr>
          <a:xfrm>
            <a:off x="5257800" y="4114800"/>
            <a:ext cx="3429000" cy="2114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76312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8022600" y="21855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ton Ridge 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3124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M 5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2286000"/>
            <a:ext cx="1143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yster Cree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Lim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72400" y="1447920"/>
            <a:ext cx="914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Lim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1240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6095880"/>
            <a:ext cx="838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rf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Lim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60199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20:49:58Z</dcterms:created>
  <dc:creator>jbarr</dc:creator>
  <dc:description/>
  <dc:language>en-US</dc:language>
  <cp:lastModifiedBy>sconsilio</cp:lastModifiedBy>
  <dcterms:modified xsi:type="dcterms:W3CDTF">2009-12-09T22:14:54Z</dcterms:modified>
  <cp:revision>10</cp:revision>
  <dc:subject/>
  <dc:title>Slide 1</dc:title>
</cp:coreProperties>
</file>